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renc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creensho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de Vuel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de Costos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oras/Costos y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cumulado de Carga/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oras/Costo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de costos fluvia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istribución Costo Fluvial/Empres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de Fluv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tácora Fluvi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egimiento al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corrido del Transporte/Ci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ansporte carga y pasajer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solidado Horas/Cost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Pla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mprimeir Manifiest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areo de Personal Lote 67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Locación del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enerar tareo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Viaj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suari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ignación de Permis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nviar Document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bicación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ditar Perf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gistro de Viaj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car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rcRect l="611" t="0" r="601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gistro Transpor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are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gramación de Pasajer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Ubicación de Perso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rcRect l="610" t="0" r="610" b="0"/>
          <a:stretch/>
        </p:blipFill>
        <p:spPr>
          <a:xfrm>
            <a:off x="1371600" y="2666880"/>
            <a:ext cx="10261440" cy="693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